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DE21-2DBC-4256-A069-9F9CCDAF6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6D31-9415-4033-A31D-C57B228679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D04-4A5E-4B45-9539-8070DF6FD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EB00-DA6E-48D1-A745-76D96302BE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E7C7-C6B8-4DF2-BDFF-768D2A3173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69E4-3522-4EF5-A036-531D564AB6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5A06-FE75-4E58-BB93-BCD236F175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2A79-00C5-493B-A03F-85ADFF9931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1C64-4933-441E-903A-8E7A8506F9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F390-DD53-402F-8280-BFF7162C1A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62EE-0F36-4FC2-89B1-5374953B98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EB3-E940-4663-BDC5-0F4D8C8A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BD6-A1AD-40B8-9286-1D8DCF38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45A-1430-494B-9DFF-6F03436D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5DDD-720B-4E70-878E-38B2EEDF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D874-BB26-401F-93F4-C0605CDA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67C8-45A0-4AC0-B8F8-40E35A19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1ACB-2D10-4FF4-AC6F-27DE075A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AC47-A1EE-4036-A0C2-AE3F3560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3303-5069-484F-9352-D3B3BF1F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9EAE-D605-44BF-8C65-85ABB108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4C29-54DF-484B-96A2-98170143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B36-F098-4323-9876-DAA16DCC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748C-7F85-4668-9EB9-50914AF8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E7FC-EE38-4169-B2E0-1A811B37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1E86-E0B2-41B6-ABED-EA3E8B17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5536-A4AD-463B-9100-75B629DD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034B-8366-41A2-A9AE-0094A417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08A-5B35-421A-8449-31B51E14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8BA-FACC-4A85-BA74-567C04AD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CCF1-C438-43FA-B0E9-67B55F59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A1D-40D2-492F-A719-527308EF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233-7A47-4CBC-A71E-FA97844B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A18-488D-4724-810C-0F5118C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C5C-3D7D-49E0-ABF6-278CC725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79C5-89E7-45E6-87DF-B7A3061AC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3396-C702-424F-8701-9EE14DCE70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gin the Begin…..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xecutive Branc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consult your notes if nee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STING ATM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 promptly at the bell. Be Rea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What position is the head of law enforcement in the USA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2441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0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TERRORISM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3160800" y="2971800"/>
            <a:ext cx="27543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ich Article of the Constitution created the Executive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541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Name the 3 qualifications to be President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2"/>
          <a:stretch/>
        </p:blipFill>
        <p:spPr>
          <a:xfrm>
            <a:off x="2819520" y="3200400"/>
            <a:ext cx="281916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What is the MAXIMUM amount of years someone can serve as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819520" y="3403440"/>
            <a:ext cx="3136680" cy="27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320" y="110016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What position is third in line of succession for the Presidency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2590920" y="3733920"/>
            <a:ext cx="31543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Who is the leader of our Nation’s Armed forc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362320" y="2895480"/>
            <a:ext cx="37591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the militar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276720" y="3465360"/>
            <a:ext cx="2206440" cy="27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the econom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3200400" y="3429000"/>
            <a:ext cx="2517840" cy="29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320" y="14382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8. The Secretary of ________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deals with foreign policy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2"/>
          <a:stretch/>
        </p:blipFill>
        <p:spPr>
          <a:xfrm>
            <a:off x="2819520" y="3276720"/>
            <a:ext cx="2417760" cy="319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1-11-16T12:53:06Z</dcterms:modified>
  <cp:revision>134</cp:revision>
  <dc:subject/>
  <dc:title>D/O: TO EXPLAIN AND IDENTIFY PROBLEMS OF ECONOMICS</dc:title>
</cp:coreProperties>
</file>